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4EB-C5B4-4CDC-BB10-EE9AD7D6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33A9-DB3D-4FB2-ADDB-FBEDEBCC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A17-12E8-46FE-9533-DA22703C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796-54AA-4935-A33E-EF0A842E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6FE-F7D7-49BA-AA1D-2CD228E9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649-5D80-4055-B931-F0E8F234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F0A-BE1F-4D4C-B72F-ECB9566C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997-16A0-46D3-BE5E-0E56244D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8A1-F185-4897-B503-B7480809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588-EF19-491F-82FD-14A88237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69D-BE4D-470D-A7C2-706F138E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604-BECF-442E-8BF7-9FF05988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36EF-EFA7-40DF-BD2C-F89823983284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133720"/>
            <a:ext cx="853416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Arial"/>
              </a:rPr>
              <a:t>Answer the following 2 questions and study for your end of block test (Wednesday 4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th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Arial"/>
              </a:rPr>
              <a:t> November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Arial"/>
              </a:rPr>
              <a:t>I will hold a revision session tomorrow after school for any interested pupils in RE 2 (3.30 – 4.30pm)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Arial"/>
              </a:rPr>
              <a:t>   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844640"/>
            <a:ext cx="853416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1) Discuss how you applied the principles of training when planning a programme to meet your identified fitness needs.  (6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2) Having monitored your level of fitness during your training programme you will have made changes.  Explain why these changes were necessary.  Give examples to support your answer.  (4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10-28T09:53:10Z</dcterms:modified>
  <cp:revision>50</cp:revision>
  <dc:subject/>
  <dc:title>Intermediate PE</dc:title>
</cp:coreProperties>
</file>